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8C1-37E6-478C-8483-C540BCDA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9F2-B9DB-42E2-A172-FF01789B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FCE-3FA4-464B-A768-47ECF6F9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246-0175-4A60-9872-547D5CBA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E20-63C9-42F6-9B03-86C85F4D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958-D595-457A-B83A-9A1D3A59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F91-C9D7-48AE-A7B2-27EEF480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6855-ECA9-4522-BB32-DA44D2BD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BF9-23EF-421A-88D7-FD90DDE4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C60-AB2F-44BA-B884-18F9405F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29A8-89CC-47FA-ADE6-8CF7BFC8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B1C-A6DE-4A89-A0A7-3A88183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05B5-97F5-40AF-8E29-4EE83E8E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tour.fr/2012/TDF/COURSE/us/grand_depart_2012.html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Grand Start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7614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tour.fr/2012/TDF/COURSE/us/grand_depart_2012.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First stage"/>
          <p:cNvPicPr/>
          <p:nvPr/>
        </p:nvPicPr>
        <p:blipFill>
          <a:blip r:embed="rId2"/>
          <a:stretch/>
        </p:blipFill>
        <p:spPr>
          <a:xfrm>
            <a:off x="1752480" y="1523880"/>
            <a:ext cx="60962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03 Geo Lefevre conceived the idea to race them nearly 2,500 kilometers around F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nalist with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’Aut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agazine at the time he came up with his insane id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ly 1, 1903, 60 cycling pioneers set out on their bicycles from Montger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tackling six long stages (the Nantes to Paris stage was 471 km!), only 21 “routiers,” led by Maurice Garin, arrived at the 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ce its inception, the Tour has been run every year except war years, with 2010 marking the 97th r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7400" y="2651040"/>
            <a:ext cx="5410080" cy="4206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124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istoi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ndant la Guer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562720" y="60912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st interruption was from 1940 to 1946, during World War 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is time, the German Propaganda Staff wanted the Tour to be run in an attempt to maintain a sense of normalcy, but then-organizer Jacques Goddet (Desgrange’s deputy and successor) refu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44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’Au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closed and its belongings, including the Tour, were seized by the state for publishing articles too close to the Ger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went several changes in sponso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med again in 19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33412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Les Années Tô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arly years of the Tour, racers were either individuals or teams aligned with a corporate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rampant corruption, in 1930 the race organizers decided that all teams had to be representatives of their country or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 through 196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Conséqu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ed allegiances to the national team and the corporate te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, the Tour returned to corporate teams, a situation that has continued, with the exception of a brief “experimental” try at national teams again in 1967 and 1968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43400" y="304920"/>
            <a:ext cx="4626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90960" y="-3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v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05520" y="99036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30, as a means of advertisement, Desgrange decided to permit advertisers precede cyclists along th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me a procession of colorfully decorated cars, trucks and flo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race organizers for the right to be in the caravan, and appealed to the crowds by giving out commercial samples and gif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337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340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44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ur de France 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from Saturday June 30th to Sunday July 22th 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th Tour de France will be made up of 1 prologue and 20 s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a total distance of 3,479 kilomet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12 Tour de France will set off from the Parc d’Avroy, in the heart of Liè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0240" y="2400480"/>
            <a:ext cx="39146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inctive Aspects of the 201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flat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edium mountain stages - one with a summit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ountain stages - two with a summit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individual time-trial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ro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rest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1720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2:27:39Z</dcterms:created>
  <dc:creator>asmith</dc:creator>
  <dc:description/>
  <dc:language>en-US</dc:language>
  <cp:lastModifiedBy>asmith</cp:lastModifiedBy>
  <dcterms:modified xsi:type="dcterms:W3CDTF">2011-10-26T15:01:48Z</dcterms:modified>
  <cp:revision>5</cp:revision>
  <dc:subject/>
  <dc:title>Slide 1</dc:title>
</cp:coreProperties>
</file>